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1A6D-FBBC-4E50-816A-F4D39A8C9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9D00-B5EF-4AF9-8696-910D3426C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260E-CAC5-4823-8169-46CDABA4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A92E-D000-426F-BF15-BB7FFD2F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FA66-DA34-47D1-A559-9FDD79E9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88E-693B-45FC-9AA9-C7806049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5290-ED25-49A3-BC71-0B993734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DF9-301C-4C14-9229-18949FEC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DCE6-FFCC-45DD-8A59-D04F69AE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0AA1-B602-4797-B63D-BE5DE1E22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F699-A690-47A4-8B98-5B1C8757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EA82-5DE6-4777-9731-B11DE40CB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F9CD-2D99-4ED9-95E8-E7252B752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lisahuff.pbwiki.com/Web+20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netsmartz411.org/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920" y="2597040"/>
            <a:ext cx="3227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9560" y="2701800"/>
            <a:ext cx="2868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304920"/>
            <a:ext cx="9144000" cy="5180040"/>
            <a:chOff x="0" y="304920"/>
            <a:chExt cx="9144000" cy="5180040"/>
          </a:xfrm>
        </p:grpSpPr>
        <p:grpSp>
          <p:nvGrpSpPr>
            <p:cNvPr id="44" name=""/>
            <p:cNvGrpSpPr/>
            <p:nvPr/>
          </p:nvGrpSpPr>
          <p:grpSpPr>
            <a:xfrm>
              <a:off x="0" y="304920"/>
              <a:ext cx="9144000" cy="5180040"/>
              <a:chOff x="0" y="304920"/>
              <a:chExt cx="9144000" cy="5180040"/>
            </a:xfrm>
          </p:grpSpPr>
          <p:pic>
            <p:nvPicPr>
              <p:cNvPr id="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263320"/>
                <a:ext cx="9144000" cy="23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40480" y="3181320"/>
                <a:ext cx="1703520" cy="145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 rot="21456600">
                <a:off x="5372280" y="2953440"/>
                <a:ext cx="295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Fanboy Hardcore"/>
                  </a:rPr>
                  <a:t>goodrea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4563360"/>
                <a:ext cx="2330280" cy="921600"/>
              </a:xfrm>
              <a:prstGeom prst="rect">
                <a:avLst/>
              </a:prstGeom>
              <a:solidFill>
                <a:srgbClr val="ff0000">
                  <a:alpha val="7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98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rea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330280" y="4563360"/>
                <a:ext cx="2330640" cy="921600"/>
              </a:xfrm>
              <a:prstGeom prst="rect">
                <a:avLst/>
              </a:prstGeom>
              <a:solidFill>
                <a:srgbClr val="333399">
                  <a:alpha val="7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1e1e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discus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72000" y="4563360"/>
                <a:ext cx="2241720" cy="921600"/>
              </a:xfrm>
              <a:prstGeom prst="rect">
                <a:avLst/>
              </a:prstGeom>
              <a:solidFill>
                <a:srgbClr val="99cc00">
                  <a:alpha val="7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5b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writ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13720" y="4563360"/>
                <a:ext cx="2330280" cy="921600"/>
              </a:xfrm>
              <a:prstGeom prst="rect">
                <a:avLst/>
              </a:prstGeom>
              <a:solidFill>
                <a:srgbClr val="ffcc00">
                  <a:alpha val="7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creat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959200" y="304920"/>
                <a:ext cx="5646600" cy="1958400"/>
              </a:xfrm>
              <a:prstGeom prst="wedgeEllipseCallout">
                <a:avLst>
                  <a:gd name="adj1" fmla="val -32240"/>
                  <a:gd name="adj2" fmla="val 83824"/>
                </a:avLst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8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868480" y="536760"/>
                <a:ext cx="5916600" cy="50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Arial Black"/>
                  </a:rPr>
                  <a:t>Connected Conversations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3"/>
            <a:srcRect l="13954" t="0" r="0" b="0"/>
            <a:stretch/>
          </p:blipFill>
          <p:spPr>
            <a:xfrm>
              <a:off x="0" y="911520"/>
              <a:ext cx="3657600" cy="358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5181480" y="2514600"/>
            <a:ext cx="3124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228600" y="464832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6" action="ppaction://hlinksldjump"/>
          </p:cNvPr>
          <p:cNvSpPr/>
          <p:nvPr/>
        </p:nvSpPr>
        <p:spPr>
          <a:xfrm>
            <a:off x="2438280" y="4648320"/>
            <a:ext cx="1981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7" action="ppaction://hlinksldjump"/>
          </p:cNvPr>
          <p:cNvSpPr/>
          <p:nvPr/>
        </p:nvSpPr>
        <p:spPr>
          <a:xfrm>
            <a:off x="3809880" y="609480"/>
            <a:ext cx="4038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472428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648320"/>
            <a:ext cx="1981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8" action="ppaction://hlinksldjump"/>
          </p:cNvPr>
          <p:cNvSpPr/>
          <p:nvPr/>
        </p:nvSpPr>
        <p:spPr>
          <a:xfrm>
            <a:off x="7391520" y="342900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676520"/>
            <a:ext cx="3200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56386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xplore the hyperlinks by moving your mouse over  words and images. Click to decide where to 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5638680"/>
            <a:ext cx="1295280" cy="990720"/>
          </a:xfrm>
          <a:prstGeom prst="rightArrow">
            <a:avLst>
              <a:gd name="adj1" fmla="val 50000"/>
              <a:gd name="adj2" fmla="val 326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475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696080" y="57913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49528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0"/>
            <a:ext cx="403848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your students to RSS/Readers to allow them to subscribe to new content via RSS: new stuff is automatically sent to their Reader without them having to look through several pages for new content.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Learn mor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34120" y="3276720"/>
            <a:ext cx="761760" cy="228600"/>
          </a:xfrm>
          <a:prstGeom prst="line">
            <a:avLst/>
          </a:prstGeom>
          <a:ln w="540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2362320"/>
            <a:ext cx="2438280" cy="1218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for feeds: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sent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ubscription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895480"/>
            <a:ext cx="3657600" cy="2819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 allow you to conn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around particular bo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, authors, genres, the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an also be a g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room management tool: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create a group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lass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745800">
            <a:off x="2362320" y="228240"/>
            <a:ext cx="3124080" cy="1295280"/>
          </a:xfrm>
          <a:prstGeom prst="leftArrow">
            <a:avLst>
              <a:gd name="adj1" fmla="val 50000"/>
              <a:gd name="adj2" fmla="val 6029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770400">
            <a:off x="2666160" y="685440"/>
            <a:ext cx="29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goodread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17431" b="0"/>
          <a:stretch/>
        </p:blipFill>
        <p:spPr>
          <a:xfrm>
            <a:off x="914400" y="2209680"/>
            <a:ext cx="6858000" cy="400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120" y="457200"/>
            <a:ext cx="586728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Ti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ducate students about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Verdana"/>
                <a:hlinkClick r:id="rId2"/>
              </a:rPr>
              <a:t>online safet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, cautioning them not to reveal personal information: full names, school name, 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563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7924680" y="58672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4920"/>
            <a:ext cx="9144000" cy="655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800600"/>
            <a:ext cx="419112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 students to write eval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sponses to books they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stop there. Have students r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reviews and comment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nvers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4343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696080" y="57913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7:29:31Z</dcterms:created>
  <dc:creator>Admin</dc:creator>
  <dc:description/>
  <dc:language>en-US</dc:language>
  <cp:lastModifiedBy>Admin</cp:lastModifiedBy>
  <dcterms:modified xsi:type="dcterms:W3CDTF">2008-07-30T22:15:18Z</dcterms:modified>
  <cp:revision>15</cp:revision>
  <dc:subject/>
  <dc:title>Slide 1</dc:title>
</cp:coreProperties>
</file>