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29B-C0B7-4220-868C-62550656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AA6-4C2C-4EA0-A516-7CB3FC8E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6C8-FAF9-47B6-BF7A-E3D1C1BD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106-9270-445A-B020-0C7A20BB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397-43D1-497A-A80E-C664BDDE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BD0-1243-4FB3-A5BA-24BA597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A79-E8AE-4417-9942-C43E1BD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FAB-58AD-4518-8856-C662122E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2BE-C397-4E20-80E7-55C95A47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D74-91F3-450A-95AA-2C35E28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08C-E9BF-40AB-B239-F5D1850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2B5-3DD6-4CD3-987F-20812E48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FD7-6F02-4A87-92FA-B3F40668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isahuff.pbwiki.com/Web+20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etsmartz411.org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920" y="2597040"/>
            <a:ext cx="3227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9560" y="2701800"/>
            <a:ext cx="2868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304920"/>
            <a:ext cx="9144000" cy="5180040"/>
            <a:chOff x="0" y="304920"/>
            <a:chExt cx="9144000" cy="5180040"/>
          </a:xfrm>
        </p:grpSpPr>
        <p:grpSp>
          <p:nvGrpSpPr>
            <p:cNvPr id="44" name=""/>
            <p:cNvGrpSpPr/>
            <p:nvPr/>
          </p:nvGrpSpPr>
          <p:grpSpPr>
            <a:xfrm>
              <a:off x="0" y="304920"/>
              <a:ext cx="9144000" cy="5180040"/>
              <a:chOff x="0" y="304920"/>
              <a:chExt cx="9144000" cy="518004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263320"/>
                <a:ext cx="9144000" cy="23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40480" y="3181320"/>
                <a:ext cx="1703520" cy="145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21456600">
                <a:off x="5372280" y="2953440"/>
                <a:ext cx="295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Fanboy Hardcore"/>
                  </a:rPr>
                  <a:t>goodrea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563360"/>
                <a:ext cx="2330280" cy="921600"/>
              </a:xfrm>
              <a:prstGeom prst="rect">
                <a:avLst/>
              </a:prstGeom>
              <a:solidFill>
                <a:srgbClr val="ff00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rea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30280" y="4563360"/>
                <a:ext cx="2330640" cy="921600"/>
              </a:xfrm>
              <a:prstGeom prst="rect">
                <a:avLst/>
              </a:prstGeom>
              <a:solidFill>
                <a:srgbClr val="333399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1e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discus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72000" y="4563360"/>
                <a:ext cx="2241720" cy="921600"/>
              </a:xfrm>
              <a:prstGeom prst="rect">
                <a:avLst/>
              </a:prstGeom>
              <a:solidFill>
                <a:srgbClr val="99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5b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wri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13720" y="4563360"/>
                <a:ext cx="2330280" cy="921600"/>
              </a:xfrm>
              <a:prstGeom prst="rect">
                <a:avLst/>
              </a:prstGeom>
              <a:solidFill>
                <a:srgbClr val="ff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crea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59200" y="304920"/>
                <a:ext cx="5646600" cy="1958400"/>
              </a:xfrm>
              <a:prstGeom prst="wedgeEllipseCallout">
                <a:avLst>
                  <a:gd name="adj1" fmla="val -32240"/>
                  <a:gd name="adj2" fmla="val 83824"/>
                </a:avLst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68480" y="536760"/>
                <a:ext cx="591660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Arial Black"/>
                  </a:rPr>
                  <a:t>Connected Conversation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3"/>
            <a:srcRect l="13954" t="0" r="0" b="0"/>
            <a:stretch/>
          </p:blipFill>
          <p:spPr>
            <a:xfrm>
              <a:off x="0" y="911520"/>
              <a:ext cx="3657600" cy="35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181480" y="2514600"/>
            <a:ext cx="3124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228600" y="46483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2438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3809880" y="60948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72428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7391520" y="34290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765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6386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xplore the hyperlinks by moving your mouse over  words and images. Click to decide where to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638680"/>
            <a:ext cx="1295280" cy="990720"/>
          </a:xfrm>
          <a:prstGeom prst="rightArrow">
            <a:avLst>
              <a:gd name="adj1" fmla="val 50000"/>
              <a:gd name="adj2" fmla="val 326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475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9528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0"/>
            <a:ext cx="403848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your students to RSS/Readers to allow them to subscribe to new content via RSS: new stuff is automatically sent to their Reader without them having to look through several pages for new content.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Learn mo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4120" y="3276720"/>
            <a:ext cx="761760" cy="22860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362320"/>
            <a:ext cx="2438280" cy="1218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for feeds: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sen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ubscription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895480"/>
            <a:ext cx="3657600" cy="281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allow you to conn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ound particular 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, authors, genres, the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also be a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management tool: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create a group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745800">
            <a:off x="2362320" y="228240"/>
            <a:ext cx="3124080" cy="1295280"/>
          </a:xfrm>
          <a:prstGeom prst="leftArrow">
            <a:avLst>
              <a:gd name="adj1" fmla="val 50000"/>
              <a:gd name="adj2" fmla="val 602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770400">
            <a:off x="2666160" y="685440"/>
            <a:ext cx="29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goodread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7431" b="0"/>
          <a:stretch/>
        </p:blipFill>
        <p:spPr>
          <a:xfrm>
            <a:off x="914400" y="2209680"/>
            <a:ext cx="6858000" cy="400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457200"/>
            <a:ext cx="58672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ucate students about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Verdana"/>
                <a:hlinkClick r:id="rId2"/>
              </a:rPr>
              <a:t>online safe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, cautioning them not to reveal personal information: full names, school name,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6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92468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800600"/>
            <a:ext cx="419112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students to wri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ponses to books they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stop there. Have students 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views and comm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434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7:29:31Z</dcterms:created>
  <dc:creator>Admin</dc:creator>
  <dc:description/>
  <dc:language>en-US</dc:language>
  <cp:lastModifiedBy>Admin</cp:lastModifiedBy>
  <dcterms:modified xsi:type="dcterms:W3CDTF">2008-07-30T22:15:18Z</dcterms:modified>
  <cp:revision>15</cp:revision>
  <dc:subject/>
  <dc:title>Slide 1</dc:title>
</cp:coreProperties>
</file>