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770-419A-41BD-90D1-AB8A822F3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29B-36A1-49C3-BCDC-5E397BCB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DEA1-9F4E-467C-A778-3DF6D37E9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E380-3B55-4B4D-80B9-08F57E5FF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B4CD-7EF4-40B3-9144-5628B32DC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C94-7156-4667-9951-9BA5A1E6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E759-8129-4FDE-B3BA-CD27832D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3A7B-BF56-4F4C-9F41-AF94E3F7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5330-3522-41F5-AD96-240AF2AF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2EF3-1C6D-4A9E-ABDE-725A767B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C96-BB42-45BD-8F1D-B8A2E562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36C-FD20-4724-91EC-53244EE57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6E4-7C1F-4F7C-AD2A-3144E365B9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lisahuff.pbwiki.com/Web+20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netsmartz411.org/" TargetMode="External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920" y="2597040"/>
            <a:ext cx="322740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79560" y="2701800"/>
            <a:ext cx="286884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304920"/>
            <a:ext cx="9144000" cy="5180040"/>
            <a:chOff x="0" y="304920"/>
            <a:chExt cx="9144000" cy="5180040"/>
          </a:xfrm>
        </p:grpSpPr>
        <p:grpSp>
          <p:nvGrpSpPr>
            <p:cNvPr id="44" name=""/>
            <p:cNvGrpSpPr/>
            <p:nvPr/>
          </p:nvGrpSpPr>
          <p:grpSpPr>
            <a:xfrm>
              <a:off x="0" y="304920"/>
              <a:ext cx="9144000" cy="5180040"/>
              <a:chOff x="0" y="304920"/>
              <a:chExt cx="9144000" cy="5180040"/>
            </a:xfrm>
          </p:grpSpPr>
          <p:pic>
            <p:nvPicPr>
              <p:cNvPr id="45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0" y="2263320"/>
                <a:ext cx="9144000" cy="2300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440480" y="3181320"/>
                <a:ext cx="1703520" cy="145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" name=""/>
              <p:cNvSpPr/>
              <p:nvPr/>
            </p:nvSpPr>
            <p:spPr>
              <a:xfrm rot="21456600">
                <a:off x="5372280" y="2953440"/>
                <a:ext cx="295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Fanboy Hardcore"/>
                  </a:rPr>
                  <a:t>goodrea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4563360"/>
                <a:ext cx="2330280" cy="921600"/>
              </a:xfrm>
              <a:prstGeom prst="rect">
                <a:avLst/>
              </a:prstGeom>
              <a:solidFill>
                <a:srgbClr val="ff00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rea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330280" y="4563360"/>
                <a:ext cx="2330640" cy="921600"/>
              </a:xfrm>
              <a:prstGeom prst="rect">
                <a:avLst/>
              </a:prstGeom>
              <a:solidFill>
                <a:srgbClr val="333399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1e1e5b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discuss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572000" y="4563360"/>
                <a:ext cx="2241720" cy="921600"/>
              </a:xfrm>
              <a:prstGeom prst="rect">
                <a:avLst/>
              </a:prstGeom>
              <a:solidFill>
                <a:srgbClr val="99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5b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wri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813720" y="4563360"/>
                <a:ext cx="2330280" cy="921600"/>
              </a:xfrm>
              <a:prstGeom prst="rect">
                <a:avLst/>
              </a:prstGeom>
              <a:solidFill>
                <a:srgbClr val="ffcc00">
                  <a:alpha val="70000"/>
                </a:srgbClr>
              </a:solidFill>
              <a:ln w="0">
                <a:noFill/>
              </a:ln>
              <a:effectLst>
                <a:outerShdw dist="17819" dir="2700000" blurRad="0" rotWithShape="0">
                  <a:srgbClr val="9879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ffffff"/>
                    </a:solidFill>
                    <a:latin typeface="Impact"/>
                  </a:rPr>
                  <a:t>create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959200" y="304920"/>
                <a:ext cx="5646600" cy="1958400"/>
              </a:xfrm>
              <a:prstGeom prst="wedgeEllipseCallout">
                <a:avLst>
                  <a:gd name="adj1" fmla="val -32240"/>
                  <a:gd name="adj2" fmla="val 83824"/>
                </a:avLst>
              </a:prstGeom>
              <a:solidFill>
                <a:srgbClr val="ff0000"/>
              </a:solidFill>
              <a:ln w="0">
                <a:noFill/>
              </a:ln>
              <a:effectLst>
                <a:outerShdw dist="17819" dir="2700000" blurRad="0" rotWithShape="0">
                  <a:srgbClr val="98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2868480" y="536760"/>
                <a:ext cx="5916600" cy="50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400" spc="-1" strike="noStrike">
                    <a:solidFill>
                      <a:srgbClr val="ffffff"/>
                    </a:solidFill>
                    <a:latin typeface="Arial Black"/>
                  </a:rPr>
                  <a:t>Connected Conversations</a:t>
                </a:r>
                <a:endParaRPr b="0" lang="en-US" sz="3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3"/>
            <a:srcRect l="13954" t="0" r="0" b="0"/>
            <a:stretch/>
          </p:blipFill>
          <p:spPr>
            <a:xfrm>
              <a:off x="0" y="911520"/>
              <a:ext cx="3657600" cy="358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5181480" y="2514600"/>
            <a:ext cx="3124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228600" y="46483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6" action="ppaction://hlinksldjump"/>
          </p:cNvPr>
          <p:cNvSpPr/>
          <p:nvPr/>
        </p:nvSpPr>
        <p:spPr>
          <a:xfrm>
            <a:off x="2438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7" action="ppaction://hlinksldjump"/>
          </p:cNvPr>
          <p:cNvSpPr/>
          <p:nvPr/>
        </p:nvSpPr>
        <p:spPr>
          <a:xfrm>
            <a:off x="3809880" y="609480"/>
            <a:ext cx="40388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010280" y="472428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648320"/>
            <a:ext cx="1981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8" action="ppaction://hlinksldjump"/>
          </p:cNvPr>
          <p:cNvSpPr/>
          <p:nvPr/>
        </p:nvSpPr>
        <p:spPr>
          <a:xfrm>
            <a:off x="7391520" y="3429000"/>
            <a:ext cx="1523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1676520"/>
            <a:ext cx="320040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56386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Explore the hyperlinks by moving your mouse over  words and images. Click to decide where to vis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5638680"/>
            <a:ext cx="1295280" cy="990720"/>
          </a:xfrm>
          <a:prstGeom prst="rightArrow">
            <a:avLst>
              <a:gd name="adj1" fmla="val 50000"/>
              <a:gd name="adj2" fmla="val 32685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4752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905120" y="4952880"/>
            <a:ext cx="4343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0"/>
            <a:ext cx="4038480" cy="20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your students to RSS/Readers to allow them to subscribe to new content via RSS: new stuff is automatically sent to their Reader without them having to look through several pages for new content.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Arial"/>
                <a:hlinkClick r:id="rId2"/>
              </a:rPr>
              <a:t>Learn mo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5334120" y="3276720"/>
            <a:ext cx="761760" cy="22860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248520" y="2362320"/>
            <a:ext cx="2438280" cy="12189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for feeds: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ent sent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ubscriptions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895480"/>
            <a:ext cx="3657600" cy="2819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ups allow you to conn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udents around particular bo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s, authors, genres, them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y can also be a gr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room management tool: so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create a group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ch class peri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7924680" y="594360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745800">
            <a:off x="2362320" y="228240"/>
            <a:ext cx="3124080" cy="1295280"/>
          </a:xfrm>
          <a:prstGeom prst="leftArrow">
            <a:avLst>
              <a:gd name="adj1" fmla="val 50000"/>
              <a:gd name="adj2" fmla="val 602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770400">
            <a:off x="2666160" y="685440"/>
            <a:ext cx="293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://goodreads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0" t="0" r="17431" b="0"/>
          <a:stretch/>
        </p:blipFill>
        <p:spPr>
          <a:xfrm>
            <a:off x="914400" y="2209680"/>
            <a:ext cx="6858000" cy="4003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457200"/>
            <a:ext cx="58672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Ti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ducate students about </a:t>
            </a:r>
            <a:r>
              <a:rPr b="0" lang="en-US" sz="1800" spc="-1" strike="noStrike" u="sng">
                <a:solidFill>
                  <a:srgbClr val="0000cc"/>
                </a:solidFill>
                <a:uFillTx/>
                <a:latin typeface="Verdana"/>
                <a:hlinkClick r:id="rId2"/>
              </a:rPr>
              <a:t>online safety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, cautioning them not to reveal personal information: full names, school name, lo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632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nextslide"/>
          </p:cNvPr>
          <p:cNvSpPr/>
          <p:nvPr/>
        </p:nvSpPr>
        <p:spPr>
          <a:xfrm>
            <a:off x="7924680" y="5867280"/>
            <a:ext cx="990720" cy="685800"/>
          </a:xfrm>
          <a:custGeom>
            <a:avLst/>
            <a:gdLst>
              <a:gd name="textAreaLeft" fmla="*/ 44280 w 990720"/>
              <a:gd name="textAreaRight" fmla="*/ 946440 w 9907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99" h="21600">
                <a:moveTo>
                  <a:pt x="0" y="0"/>
                </a:moveTo>
                <a:lnTo>
                  <a:pt x="31199" y="0"/>
                </a:lnTo>
                <a:lnTo>
                  <a:pt x="31199" y="21600"/>
                </a:lnTo>
                <a:lnTo>
                  <a:pt x="0" y="21600"/>
                </a:lnTo>
                <a:close/>
              </a:path>
              <a:path fill="lightenLess" w="31199" h="21600">
                <a:moveTo>
                  <a:pt x="0" y="0"/>
                </a:moveTo>
                <a:lnTo>
                  <a:pt x="31199" y="0"/>
                </a:lnTo>
                <a:lnTo>
                  <a:pt x="29799" y="1400"/>
                </a:lnTo>
                <a:lnTo>
                  <a:pt x="1400" y="1400"/>
                </a:lnTo>
                <a:close/>
              </a:path>
              <a:path fill="darken" w="31199" h="21600">
                <a:moveTo>
                  <a:pt x="31199" y="0"/>
                </a:moveTo>
                <a:lnTo>
                  <a:pt x="31199" y="21600"/>
                </a:lnTo>
                <a:lnTo>
                  <a:pt x="29799" y="20200"/>
                </a:lnTo>
                <a:lnTo>
                  <a:pt x="29799" y="1400"/>
                </a:lnTo>
                <a:close/>
              </a:path>
              <a:path fill="darkenLess" w="31199" h="21600">
                <a:moveTo>
                  <a:pt x="31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99" y="20200"/>
                </a:lnTo>
                <a:close/>
              </a:path>
              <a:path fill="lighten" w="31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99" h="21600">
                <a:moveTo>
                  <a:pt x="8593" y="3794"/>
                </a:moveTo>
                <a:lnTo>
                  <a:pt x="22606" y="10800"/>
                </a:lnTo>
                <a:lnTo>
                  <a:pt x="8593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4920"/>
            <a:ext cx="9144000" cy="655308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7848720" y="5867280"/>
            <a:ext cx="990360" cy="685800"/>
          </a:xfrm>
          <a:custGeom>
            <a:avLst/>
            <a:gdLst>
              <a:gd name="textAreaLeft" fmla="*/ 44280 w 990360"/>
              <a:gd name="textAreaRight" fmla="*/ 946080 w 9903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1187" h="21600">
                <a:moveTo>
                  <a:pt x="0" y="0"/>
                </a:moveTo>
                <a:lnTo>
                  <a:pt x="31187" y="0"/>
                </a:lnTo>
                <a:lnTo>
                  <a:pt x="31187" y="21600"/>
                </a:lnTo>
                <a:lnTo>
                  <a:pt x="0" y="21600"/>
                </a:lnTo>
                <a:close/>
              </a:path>
              <a:path fill="lightenLess" w="31187" h="21600">
                <a:moveTo>
                  <a:pt x="0" y="0"/>
                </a:moveTo>
                <a:lnTo>
                  <a:pt x="31187" y="0"/>
                </a:lnTo>
                <a:lnTo>
                  <a:pt x="29787" y="1400"/>
                </a:lnTo>
                <a:lnTo>
                  <a:pt x="1400" y="1400"/>
                </a:lnTo>
                <a:close/>
              </a:path>
              <a:path fill="darken" w="31187" h="21600">
                <a:moveTo>
                  <a:pt x="31187" y="0"/>
                </a:moveTo>
                <a:lnTo>
                  <a:pt x="31187" y="21600"/>
                </a:lnTo>
                <a:lnTo>
                  <a:pt x="29787" y="20200"/>
                </a:lnTo>
                <a:lnTo>
                  <a:pt x="29787" y="1400"/>
                </a:lnTo>
                <a:close/>
              </a:path>
              <a:path fill="darkenLess" w="31187" h="21600">
                <a:moveTo>
                  <a:pt x="31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787" y="20200"/>
                </a:lnTo>
                <a:close/>
              </a:path>
              <a:path fill="lighten" w="31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187" h="21600">
                <a:moveTo>
                  <a:pt x="8587" y="3794"/>
                </a:moveTo>
                <a:lnTo>
                  <a:pt x="22600" y="10800"/>
                </a:lnTo>
                <a:lnTo>
                  <a:pt x="858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24000"/>
            <a:ext cx="9144000" cy="440856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9436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800600"/>
            <a:ext cx="419112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courage students to write eval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responses to books they 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’t stop there. Have students rea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reviews and comment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t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nvers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4343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7696080" y="57913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Lisa Huff ©2008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7:29:31Z</dcterms:created>
  <dc:creator>Admin</dc:creator>
  <dc:description/>
  <dc:language>en-US</dc:language>
  <cp:lastModifiedBy>Admin</cp:lastModifiedBy>
  <dcterms:modified xsi:type="dcterms:W3CDTF">2008-07-30T22:15:18Z</dcterms:modified>
  <cp:revision>15</cp:revision>
  <dc:subject/>
  <dc:title>Slide 1</dc:title>
</cp:coreProperties>
</file>